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B1D-EF4D-43E9-AB77-1E4AE0EC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DCC-35CF-4FC8-9C5F-C55E961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D85-99B9-4C2C-B3EB-39AA2F6C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1C2-5C01-4431-98D6-D7E43972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117-13F2-4F28-9119-2EFF4DD5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C05-38F6-4747-8AFE-AC95894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BCB-A88D-4F76-AFA5-129CD1C8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9E7-E22F-49B0-A3BC-0A4D15A4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68E-4D3B-4E45-8E48-AAE1B285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BDE-148D-4432-9950-060CB25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A27-160D-482F-8AA7-D234CC0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999-0F09-464C-9CAA-0F942BBC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CC4-151D-4832-953A-D2FFB0ACBC86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you may ask yourself, self how did I get he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Earth in the Beginn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9061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arly conditions of  Eart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Hot = UV light gets to the surfa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Violent =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arthquakes (plate tectonic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Volcano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eteo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Light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arly atmosphe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ethane (CH4)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Hydrogen (H2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mmonia (NH3)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Water Vapor (H2O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arbon Dioxide (CO2)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parin’s Hypothesi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arin suggested that the gases in the primitive atmosphere plus energy might form the precursors to lif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Miller tried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893" t="3336" r="2650" b="4444"/>
          <a:stretch/>
        </p:blipFill>
        <p:spPr>
          <a:xfrm>
            <a:off x="0" y="0"/>
            <a:ext cx="5948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728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iller-Urey Experimen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67280" y="1371240"/>
            <a:ext cx="3276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ectric spark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V radi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ethan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ydrogen ga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mmoni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Water vap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at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eni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NA/DN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rbohydrat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ver lif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5200"/>
          <a:stretch/>
        </p:blipFill>
        <p:spPr>
          <a:xfrm>
            <a:off x="0" y="0"/>
            <a:ext cx="9144000" cy="4170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 Antiqua"/>
              </a:rPr>
              <a:t>First lif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irst life on ear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terotrophic prokaryotes ate the organic compounds found in the primordial sou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irst autotroph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teria called archaebacteri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d chemosynthesis not photosynthesi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43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xygen in the Atmosphere!!!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14800" y="9144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hotosynthesis appeared @ 3000 my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karyotes related to cyanobacteria (blue green algae) were the first to photosynthesiz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xygen was a byproduct of photosynthesi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Extinction and Prote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xygen was deadly to most of the organisms.  It caused the first major extinction on eart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ome prokaryotes survived and used oxygen for more efficient respir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xygen also formed Ozone (O3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zone is poisonous to animals and pla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zone protects the earth (particularly exposed land from DNA damaging UV r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Evidence of Oxyge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We have evidence of Oxygen appearing in the rusty bands of rock shown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efore oxygen was in the atmosphere, iron containing rocks couldn’t rus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5283"/>
          <a:stretch/>
        </p:blipFill>
        <p:spPr>
          <a:xfrm>
            <a:off x="0" y="276228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irst Eukaryo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endosymbiont theory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7760" y="-360"/>
            <a:ext cx="6095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mall aerobic prokaryotes entered and began to live inside larger anaerobic prokaryo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itochondria&amp;chloroplast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posed by Lynn Marguli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haracteristics of all Living Thing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w sam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w different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w classif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267080" y="1828800"/>
            <a:ext cx="4191120" cy="4191120"/>
            <a:chOff x="4267080" y="1828800"/>
            <a:chExt cx="4191120" cy="41911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rcRect l="0" t="0" r="0" b="3442"/>
            <a:stretch/>
          </p:blipFill>
          <p:spPr>
            <a:xfrm>
              <a:off x="4267080" y="1828800"/>
              <a:ext cx="4191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4267080" y="1828800"/>
              <a:ext cx="419112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rt 1:   History of the Earth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earth formed 4.6 billion years ag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1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10080" y="5335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 Antiqua"/>
              </a:rPr>
              <a:t>EVOLUTIO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4500 million year history of the earth is broken in to unequal era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history of the earth is 100,000 times longer than human histo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051000"/>
            <a:ext cx="8915400" cy="3807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th has chang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the organisms living on it changed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ossil record says yes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th’s Histor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 of the elements that we know of are thought to have been in the universe since its formation. The prevalent elements on the Earth have changed over ti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e are stardust, We are gold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Origin of Life on Earth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arth solidified @ 4 bil yrs ago (bya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arth’s atmosphere came from gases blown from st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inly hydrogen and hel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fter the earth cooled, gases from volcanoes were add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8:15:47Z</dcterms:created>
  <dc:creator>Beth Waid Prince</dc:creator>
  <dc:description/>
  <dc:language>en-US</dc:language>
  <cp:lastModifiedBy>Tricia</cp:lastModifiedBy>
  <cp:lastPrinted>2001-01-20T19:53:34Z</cp:lastPrinted>
  <dcterms:modified xsi:type="dcterms:W3CDTF">2007-03-27T13:25:48Z</dcterms:modified>
  <cp:revision>66</cp:revision>
  <dc:subject/>
  <dc:title>Evolution</dc:title>
</cp:coreProperties>
</file>